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F2E-F0A0-4112-9605-88437EB3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C5B-4AEF-4799-A1CF-32D14590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D38-C219-4357-A691-4D433616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BAC-6D2C-46D5-9F26-76578C91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CD3-95BC-459F-8D02-B24A6DE2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648-35C0-4824-BEF3-707FB56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9E2-D0DF-480D-99DB-ED70985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833-65DF-44FA-97FF-51F4685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96A-22AE-4E5C-8273-8E0635B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662-A1C0-483B-8C57-1090698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3A9-416F-4FD0-ACBE-F53CC4B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817-8B14-4EB7-B997-FA50582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966-9C84-4E80-B055-688594518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34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836640"/>
            <a:ext cx="5689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10 квітня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День визволення Одеси від німецько-фашистських загарб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0360" y="3981600"/>
            <a:ext cx="3744720" cy="2496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7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321080" cy="290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3816360" cy="248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321080" cy="2776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3600360" cy="246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26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994200" cy="269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961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03884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497400" cy="240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35640" y="981000"/>
            <a:ext cx="311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01508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873600" cy="257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284720" y="3716280"/>
            <a:ext cx="46213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2732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73348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392360" cy="2855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987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8880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299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638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23640" y="907920"/>
            <a:ext cx="6789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...Я мріяла стати кулеметницею і хоробро битися. Коли почалася війна, я була вже готова, склала на «відмінно» кулеметну справу. Я потрапила — яке це було щастя для мене! — до Чапаївської дивізії. Я зі своїм кулеметом захищала Одесу... На вигляд я, звичайно, дуже слабенька, маленька, худа. Але я скажу правду: у мене жодного разу не затремтіла рука. Спочатку я ще боялася. А потім все пройшло... Коли захищаєш дорогу, рідну землю і свою сім'ю (у мене немає рідної сім'ї, і тому весь народ — моя сім'я), тоді стаєш дуже хороброю і не розумієш, що таке боягузтво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Лист Ніни Онілової, 20-річної кулеметниці, Героя Радянського Союзу, до актриси В.М'ясникової, виконавиці ролі Анки-кулеметниці у фільмі «Чапаев». (Н. Онілова загинула при обороні Севастопол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0127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38480" cy="276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960720" cy="265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560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05080" cy="26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744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8480" cy="279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5114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43927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0369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32018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456000" cy="271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62124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56000" y="3500280"/>
            <a:ext cx="41749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88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3816360" cy="2525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403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87640" cy="25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038840" cy="289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228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1:22:28Z</dcterms:created>
  <dc:creator>Librarian</dc:creator>
  <dc:description/>
  <dc:language>en-US</dc:language>
  <cp:lastModifiedBy>Librarian</cp:lastModifiedBy>
  <dcterms:modified xsi:type="dcterms:W3CDTF">2012-04-06T10:16:02Z</dcterms:modified>
  <cp:revision>35</cp:revision>
  <dc:subject/>
  <dc:title>10 квітня-День визволення Одеси від фашистських загарбників</dc:title>
</cp:coreProperties>
</file>