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A11C-D490-4CE5-B666-8E0EA74D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18DE-59E4-4752-BD05-0BA7CA8E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45A9-C19D-4EB6-B18F-AA1B58997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B957-9A4A-49AF-82E3-9AC3451CE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CA4D-F605-40DA-A95F-7A73C4EF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B628-36CA-4DA6-A146-6D20362B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D3C9-CD96-4B96-ACA4-F4F17732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165F-552B-420B-BC73-80BB710E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5F75-3601-4F9B-8BFA-79F481F1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80F9-3C46-41A0-BD51-1803E232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2D24-0300-4B8B-949E-8CD3591A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EE6C-CF4A-43EF-B51F-377B2F2A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AB8C-AE33-4697-9FDD-0914881A61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34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87280" y="836640"/>
            <a:ext cx="56898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Georgia"/>
              </a:rPr>
              <a:t>10 квітня</a:t>
            </a:r>
            <a:r>
              <a:rPr b="0" i="1" lang="en-US" sz="4000" spc="-1" strike="noStrike">
                <a:solidFill>
                  <a:srgbClr val="000000"/>
                </a:solidFill>
                <a:latin typeface="Georgia"/>
              </a:rPr>
              <a:t>-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Georgia"/>
              </a:rPr>
              <a:t>День визволення Одеси від німецько-фашистських загарбник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140360" y="3981600"/>
            <a:ext cx="3744720" cy="2496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6794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859280" y="2602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321080" cy="2903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26920" y="3645000"/>
            <a:ext cx="3816360" cy="248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5651640" y="378936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321080" cy="2776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55640" y="3573360"/>
            <a:ext cx="3600360" cy="246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788000" y="1844640"/>
            <a:ext cx="40384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176720" cy="2691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43280" y="692280"/>
            <a:ext cx="3672000" cy="256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95280" y="3357720"/>
            <a:ext cx="3994200" cy="2695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643280" y="3645000"/>
            <a:ext cx="39610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4038840" cy="3024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476360" y="3933720"/>
            <a:ext cx="3497400" cy="2403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435640" y="981000"/>
            <a:ext cx="3114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105080" cy="2724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43280" y="765000"/>
            <a:ext cx="4015080" cy="2664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95280" y="3284640"/>
            <a:ext cx="3873600" cy="2570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4284720" y="3716280"/>
            <a:ext cx="46213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176720" cy="2732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651640" y="260280"/>
            <a:ext cx="2733480" cy="3456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50920" y="3141720"/>
            <a:ext cx="4392360" cy="2855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859280" y="3860640"/>
            <a:ext cx="39877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3500280"/>
            <a:ext cx="3959280" cy="2880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3888000" cy="2808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788000" y="260280"/>
            <a:ext cx="3816360" cy="2992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284720" y="3357720"/>
            <a:ext cx="46386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123640" y="907920"/>
            <a:ext cx="6789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...Я мріяла стати кулеметницею і хоробро битися. Коли почалася війна, я була вже готова, склала на «відмінно» кулеметну справу. Я потрапила — яке це було щастя для мене! — до Чапаївської дивізії. Я зі своїм кулеметом захищала Одесу... На вигляд я, звичайно, дуже слабенька, маленька, худа. Але я скажу правду: у мене жодного разу не затремтіла рука. Спочатку я ще боялася. А потім все пройшло... Коли захищаєш дорогу, рідну землю і свою сім'ю (у мене немає рідної сім'ї, і тому весь народ — моя сім'я), тоді стаєш дуже хороброю і не розумієш, що таке боягузтво..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Лист Ніни Онілової, 20-річної кулеметниці, Героя Радянського Союзу, до актриси В.М'ясникової, виконавиці ролі Анки-кулеметниці у фільмі «Чапаев». (Н. Онілова загинула при обороні Севастополя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20127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0" y="549360"/>
            <a:ext cx="4038480" cy="2763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627280" y="3500280"/>
            <a:ext cx="3960720" cy="2651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39640" y="476280"/>
            <a:ext cx="345600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038480" cy="280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4105080" cy="2639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88000" y="3429000"/>
            <a:ext cx="37447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4038480" cy="2795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932360" y="692280"/>
            <a:ext cx="3511440" cy="2592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700360" y="4005360"/>
            <a:ext cx="439272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92360" y="3429000"/>
            <a:ext cx="4176720" cy="280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3036960" cy="218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572000" y="620640"/>
            <a:ext cx="320184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3456000" cy="2711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076720" y="692280"/>
            <a:ext cx="3621240" cy="2185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556000" y="3500280"/>
            <a:ext cx="417492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889440" cy="2886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00720" y="692280"/>
            <a:ext cx="3816360" cy="2525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435640" y="3500280"/>
            <a:ext cx="2403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3887640" cy="2546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9640" y="3500280"/>
            <a:ext cx="4038840" cy="2891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292720" y="1413000"/>
            <a:ext cx="22874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11:22:28Z</dcterms:created>
  <dc:creator>Librarian</dc:creator>
  <dc:description/>
  <dc:language>en-US</dc:language>
  <cp:lastModifiedBy>Librarian</cp:lastModifiedBy>
  <dcterms:modified xsi:type="dcterms:W3CDTF">2012-04-06T10:16:02Z</dcterms:modified>
  <cp:revision>35</cp:revision>
  <dc:subject/>
  <dc:title>10 квітня-День визволення Одеси від фашистських загарбників</dc:title>
</cp:coreProperties>
</file>