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662B-99B8-4D5D-A256-23D7B2FB0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F6B4-0D65-4C0A-86E6-2E8743725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0FD-ADC3-403D-B60F-EDF4C1BB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04C-F64E-4860-9F25-6B2F8C91B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DFC6-88D2-4AAD-813E-0A9731DF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F510-DBF6-4A74-BD52-FC9291F8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741-312F-4D73-AD1E-BDB8A530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913-F119-40D9-B642-52099327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01AB-D16F-48CE-8314-7AC86993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50B-CF84-4CAF-AB88-E5D00F46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CB27-6298-484A-B614-29008B47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B4E-F968-47BD-B80B-298471057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A2B4-B810-4ECD-AF41-9697BE364D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34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87280" y="836640"/>
            <a:ext cx="568980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000000"/>
                </a:solidFill>
                <a:latin typeface="Georgia"/>
              </a:rPr>
              <a:t>10 квітня</a:t>
            </a:r>
            <a:r>
              <a:rPr b="0" i="1" lang="en-US" sz="4000" spc="-1" strike="noStrike">
                <a:solidFill>
                  <a:srgbClr val="000000"/>
                </a:solidFill>
                <a:latin typeface="Georgia"/>
              </a:rPr>
              <a:t>-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000000"/>
                </a:solidFill>
                <a:latin typeface="Georgia"/>
              </a:rPr>
              <a:t>День визволення Одеси від німецько-фашистських загарбникі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0360" y="3981600"/>
            <a:ext cx="3744720" cy="2496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267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321080" cy="29034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826920" y="3645000"/>
            <a:ext cx="3816360" cy="248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5651640" y="378936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321080" cy="27763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3573360"/>
            <a:ext cx="3600360" cy="246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88000" y="1844640"/>
            <a:ext cx="40384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4176720" cy="2691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692280"/>
            <a:ext cx="3672000" cy="25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395280" y="3357720"/>
            <a:ext cx="3994200" cy="2695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4643280" y="3645000"/>
            <a:ext cx="39610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4038840" cy="3024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476360" y="3933720"/>
            <a:ext cx="3497400" cy="240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435640" y="981000"/>
            <a:ext cx="3114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2724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4015080" cy="2664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95280" y="3284640"/>
            <a:ext cx="3873600" cy="25700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284720" y="3716280"/>
            <a:ext cx="46213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176720" cy="2732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260280"/>
            <a:ext cx="2733480" cy="3456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250920" y="3141720"/>
            <a:ext cx="4392360" cy="2855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859280" y="3860640"/>
            <a:ext cx="398772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3500280"/>
            <a:ext cx="3959280" cy="2880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9280" y="333360"/>
            <a:ext cx="38880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2992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4284720" y="3357720"/>
            <a:ext cx="46386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123640" y="907920"/>
            <a:ext cx="67899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...Я мріяла стати кулеметницею і хоробро битися. Коли почалася війна, я була вже готова, склала на «відмінно» кулеметну справу. Я потрапила — яке це було щастя для мене! — до Чапаївської дивізії. Я зі своїм кулеметом захищала Одесу... На вигляд я, звичайно, дуже слабенька, маленька, худа. Але я скажу правду: у мене жодного разу не затремтіла рука. Спочатку я ще боялася. А потім все пройшло... Коли захищаєш дорогу, рідну землю і свою сім'ю (у мене немає рідної сім'ї, і тому весь народ — моя сім'я), тоді стаєш дуже хороброю і не розумієш, що таке боягузтво..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Лист Ніни Онілової, 20-річної кулеметниці, Героя Радянського Союзу, до актриси В.М'ясникової, виконавиці ролі Анки-кулеметниці у фільмі «Чапаев». (Н. Онілова загинула при обороні Севастополя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0127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0" y="549360"/>
            <a:ext cx="4038480" cy="2763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627280" y="3500280"/>
            <a:ext cx="3960720" cy="2651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476280"/>
            <a:ext cx="34560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280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788000" y="549360"/>
            <a:ext cx="4105080" cy="26398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88000" y="3429000"/>
            <a:ext cx="374472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4038480" cy="2795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32360" y="692280"/>
            <a:ext cx="3511440" cy="259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700360" y="4005360"/>
            <a:ext cx="4392720" cy="20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92360" y="3429000"/>
            <a:ext cx="4176720" cy="2808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692280"/>
            <a:ext cx="3036960" cy="218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572000" y="620640"/>
            <a:ext cx="320184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3456000" cy="27115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621240" cy="2185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556000" y="3500280"/>
            <a:ext cx="417492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886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00720" y="692280"/>
            <a:ext cx="3816360" cy="2525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35640" y="3500280"/>
            <a:ext cx="24033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887640" cy="25462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3500280"/>
            <a:ext cx="4038840" cy="289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5292720" y="1413000"/>
            <a:ext cx="22874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1T11:22:28Z</dcterms:created>
  <dc:creator>Librarian</dc:creator>
  <dc:description/>
  <dc:language>en-US</dc:language>
  <cp:lastModifiedBy>Librarian</cp:lastModifiedBy>
  <dcterms:modified xsi:type="dcterms:W3CDTF">2012-04-06T10:16:02Z</dcterms:modified>
  <cp:revision>35</cp:revision>
  <dc:subject/>
  <dc:title>10 квітня-День визволення Одеси від фашистських загарбників</dc:title>
</cp:coreProperties>
</file>