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EBCA-BC2A-41C1-B678-FE95A7B79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03C3-3566-4010-B8F8-1597EF60C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A289-93E1-41C8-BE31-E3B11882A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41F8-9579-4B62-8030-057F73031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88A4-E13E-426D-B3FF-22E583757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2F8B-644D-407A-A43F-13392C11B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7EEF-D300-4703-8DE3-62538A739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ECCC-805B-457F-81C5-1EF6967E6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6F65-F496-4CFB-936D-110B17E6A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D0C5-C556-4691-A7F1-655A413F4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1E5A-3630-4719-9FA5-AAFBCF45F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2541-AF82-4AD0-BF4E-08368DDBA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3839A-A3EA-46D8-B1A4-D6B3C780B3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Художник Тарас Шевченк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826920" y="1773360"/>
            <a:ext cx="2667240" cy="17143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979640" y="3645000"/>
            <a:ext cx="1977840" cy="28065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5292720" y="1773360"/>
            <a:ext cx="3365640" cy="44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Портрет Х.М.Маевской»</a:t>
            </a:r>
            <a:br>
              <a:rPr sz="32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843 г., холст, масло, музей Т.Г. Шевченко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портрет Маевской"/>
          <p:cNvPicPr/>
          <p:nvPr/>
        </p:nvPicPr>
        <p:blipFill>
          <a:blip r:embed="rId1"/>
          <a:stretch/>
        </p:blipFill>
        <p:spPr>
          <a:xfrm>
            <a:off x="3059280" y="1916280"/>
            <a:ext cx="318600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«Портрет Е.П.Гребинки», </a:t>
            </a:r>
            <a:br>
              <a:rPr sz="40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кварель, 1837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портрет Гребинки"/>
          <p:cNvPicPr/>
          <p:nvPr/>
        </p:nvPicPr>
        <p:blipFill>
          <a:blip r:embed="rId1"/>
          <a:stretch/>
        </p:blipFill>
        <p:spPr>
          <a:xfrm>
            <a:off x="3059280" y="1700280"/>
            <a:ext cx="338436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«Катерина»</a:t>
            </a:r>
            <a:br>
              <a:rPr sz="40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842 г., холст, масло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Катерина"/>
          <p:cNvPicPr/>
          <p:nvPr/>
        </p:nvPicPr>
        <p:blipFill>
          <a:blip r:embed="rId1"/>
          <a:stretch/>
        </p:blipFill>
        <p:spPr>
          <a:xfrm>
            <a:off x="2916360" y="1628640"/>
            <a:ext cx="342576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«Пожар в степи»</a:t>
            </a:r>
            <a:br>
              <a:rPr sz="40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848 г., бумага, акварель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пожар в степи"/>
          <p:cNvPicPr/>
          <p:nvPr/>
        </p:nvPicPr>
        <p:blipFill>
          <a:blip r:embed="rId1"/>
          <a:stretch/>
        </p:blipFill>
        <p:spPr>
          <a:xfrm>
            <a:off x="1979640" y="1916280"/>
            <a:ext cx="5688000" cy="40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«Натурщица»</a:t>
            </a:r>
            <a:br>
              <a:rPr sz="40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умага, акварель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Натурщица"/>
          <p:cNvPicPr/>
          <p:nvPr/>
        </p:nvPicPr>
        <p:blipFill>
          <a:blip r:embed="rId1"/>
          <a:stretch/>
        </p:blipFill>
        <p:spPr>
          <a:xfrm>
            <a:off x="1692360" y="1773360"/>
            <a:ext cx="575928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«Цыганка-гадалка»</a:t>
            </a:r>
            <a:br>
              <a:rPr sz="40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841 г., акварель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Цыганка гадалка"/>
          <p:cNvPicPr/>
          <p:nvPr/>
        </p:nvPicPr>
        <p:blipFill>
          <a:blip r:embed="rId1"/>
          <a:stretch/>
        </p:blipFill>
        <p:spPr>
          <a:xfrm>
            <a:off x="3262320" y="1762200"/>
            <a:ext cx="3176640" cy="40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«Мария»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Иллюстрация к "Полтаве" Пушкина А.С.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840 г., акварель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к Полтаве"/>
          <p:cNvPicPr/>
          <p:nvPr/>
        </p:nvPicPr>
        <p:blipFill>
          <a:blip r:embed="rId1"/>
          <a:stretch/>
        </p:blipFill>
        <p:spPr>
          <a:xfrm>
            <a:off x="2843280" y="2421000"/>
            <a:ext cx="3168720" cy="31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«Портрет детей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епнина – Волконского Н.Г.»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холст, масло, 1841 г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Портрет детей Репнина Волконского"/>
          <p:cNvPicPr/>
          <p:nvPr/>
        </p:nvPicPr>
        <p:blipFill>
          <a:blip r:embed="rId1"/>
          <a:stretch/>
        </p:blipFill>
        <p:spPr>
          <a:xfrm>
            <a:off x="2411280" y="2060640"/>
            <a:ext cx="396108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«Автопортрет»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61 г., холст, масло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автопротрет"/>
          <p:cNvPicPr/>
          <p:nvPr/>
        </p:nvPicPr>
        <p:blipFill>
          <a:blip r:embed="rId1"/>
          <a:stretch/>
        </p:blipFill>
        <p:spPr>
          <a:xfrm>
            <a:off x="3059280" y="1844640"/>
            <a:ext cx="302400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«Автопортрет» 1840-1843 гг.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холст, масло 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Автопортрет Шевченко"/>
          <p:cNvPicPr/>
          <p:nvPr/>
        </p:nvPicPr>
        <p:blipFill>
          <a:blip r:embed="rId1"/>
          <a:stretch/>
        </p:blipFill>
        <p:spPr>
          <a:xfrm>
            <a:off x="3203640" y="1916280"/>
            <a:ext cx="3025800" cy="42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«Портрет Г.И. Закревской»</a:t>
            </a:r>
            <a:br>
              <a:rPr sz="40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843 г., холст, масло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портрет Закревской"/>
          <p:cNvPicPr/>
          <p:nvPr/>
        </p:nvPicPr>
        <p:blipFill>
          <a:blip r:embed="rId1"/>
          <a:stretch/>
        </p:blipFill>
        <p:spPr>
          <a:xfrm>
            <a:off x="2657520" y="1557360"/>
            <a:ext cx="356544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Портрет Е. Кейкуатовой»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842 г., холст, масло, музей Т.Г. Шевченко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портрет Кейкуатовой"/>
          <p:cNvPicPr/>
          <p:nvPr/>
        </p:nvPicPr>
        <p:blipFill>
          <a:blip r:embed="rId1"/>
          <a:stretch/>
        </p:blipFill>
        <p:spPr>
          <a:xfrm>
            <a:off x="2916360" y="1989000"/>
            <a:ext cx="328428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«Казак на коне»</a:t>
            </a:r>
            <a:br>
              <a:rPr sz="40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848-1849 гг.,бумага, акварель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казак на коне"/>
          <p:cNvPicPr/>
          <p:nvPr/>
        </p:nvPicPr>
        <p:blipFill>
          <a:blip r:embed="rId1"/>
          <a:stretch/>
        </p:blipFill>
        <p:spPr>
          <a:xfrm>
            <a:off x="1619280" y="1844640"/>
            <a:ext cx="6337440" cy="42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«Лунная ночь»</a:t>
            </a:r>
            <a:br>
              <a:rPr sz="40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848-1849 гг., бумага,акварель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лунная ночь"/>
          <p:cNvPicPr/>
          <p:nvPr/>
        </p:nvPicPr>
        <p:blipFill>
          <a:blip r:embed="rId1"/>
          <a:stretch/>
        </p:blipFill>
        <p:spPr>
          <a:xfrm>
            <a:off x="1332000" y="2133720"/>
            <a:ext cx="648000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«Форт Кара-Бутак»</a:t>
            </a:r>
            <a:br>
              <a:rPr sz="40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848 г., бумага, акварель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форт Кара Бутас"/>
          <p:cNvPicPr/>
          <p:nvPr/>
        </p:nvPicPr>
        <p:blipFill>
          <a:blip r:embed="rId1"/>
          <a:stretch/>
        </p:blipFill>
        <p:spPr>
          <a:xfrm>
            <a:off x="1908000" y="1989000"/>
            <a:ext cx="5329440" cy="36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«Шхуны у форта Кос-Арал»</a:t>
            </a:r>
            <a:br>
              <a:rPr sz="40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умага, акварель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шхуны у форта Кос Арал"/>
          <p:cNvPicPr/>
          <p:nvPr/>
        </p:nvPicPr>
        <p:blipFill>
          <a:blip r:embed="rId1"/>
          <a:stretch/>
        </p:blipFill>
        <p:spPr>
          <a:xfrm>
            <a:off x="1403280" y="1989000"/>
            <a:ext cx="6481800" cy="37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2T14:13:28Z</dcterms:created>
  <dc:creator>Librarian</dc:creator>
  <dc:description/>
  <dc:language>en-US</dc:language>
  <cp:lastModifiedBy>Librarian</cp:lastModifiedBy>
  <dcterms:modified xsi:type="dcterms:W3CDTF">2012-03-02T14:02:12Z</dcterms:modified>
  <cp:revision>15</cp:revision>
  <dc:subject/>
  <dc:title>Слайд 1</dc:title>
</cp:coreProperties>
</file>