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490-0E5D-4ABE-B6DB-98EFF7976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B52B-1034-475F-849D-F663AE89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90FC-92E0-4DAA-AAC5-8FACF7E5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027-53A4-4D30-AC79-0881AAD8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E716-8502-4B1B-9023-250E3B4A1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231-63AE-42C6-BB01-03B456B7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74BD-B298-4903-9694-19F53268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9C92-AEC4-48DD-8F2F-0A3DFC28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4781-551E-47D9-B31E-D23642A4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1EF3-ED10-4358-9929-72A05B05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49B-57DB-480D-8566-BA7AB35D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2E7D-985B-4B69-85E7-E50E4D9E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CDC6-CE66-496F-B0E0-A94DB5F35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Художник Тарас Шевченк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2667240" cy="17143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79640" y="3645000"/>
            <a:ext cx="1977840" cy="2806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292720" y="1773360"/>
            <a:ext cx="336564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ортрет Х.М.Маевской»</a:t>
            </a:r>
            <a:br>
              <a:rPr sz="32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43 г., холст, масло, музей Т.Г. Шевченк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портрет Маевской"/>
          <p:cNvPicPr/>
          <p:nvPr/>
        </p:nvPicPr>
        <p:blipFill>
          <a:blip r:embed="rId1"/>
          <a:stretch/>
        </p:blipFill>
        <p:spPr>
          <a:xfrm>
            <a:off x="3059280" y="1916280"/>
            <a:ext cx="3186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ортрет Е.П.Гребинки», 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кварель, 183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портрет Гребинки"/>
          <p:cNvPicPr/>
          <p:nvPr/>
        </p:nvPicPr>
        <p:blipFill>
          <a:blip r:embed="rId1"/>
          <a:stretch/>
        </p:blipFill>
        <p:spPr>
          <a:xfrm>
            <a:off x="3059280" y="1700280"/>
            <a:ext cx="3384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Катерина»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2 г., холст, масл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Катерина"/>
          <p:cNvPicPr/>
          <p:nvPr/>
        </p:nvPicPr>
        <p:blipFill>
          <a:blip r:embed="rId1"/>
          <a:stretch/>
        </p:blipFill>
        <p:spPr>
          <a:xfrm>
            <a:off x="2916360" y="1628640"/>
            <a:ext cx="34257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Пожар в степи»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8 г., бумага, акваре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пожар в степи"/>
          <p:cNvPicPr/>
          <p:nvPr/>
        </p:nvPicPr>
        <p:blipFill>
          <a:blip r:embed="rId1"/>
          <a:stretch/>
        </p:blipFill>
        <p:spPr>
          <a:xfrm>
            <a:off x="1979640" y="1916280"/>
            <a:ext cx="5688000" cy="40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Натурщица»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мага, акваре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Натурщица"/>
          <p:cNvPicPr/>
          <p:nvPr/>
        </p:nvPicPr>
        <p:blipFill>
          <a:blip r:embed="rId1"/>
          <a:stretch/>
        </p:blipFill>
        <p:spPr>
          <a:xfrm>
            <a:off x="1692360" y="1773360"/>
            <a:ext cx="5759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Цыганка-гадалка»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1 г., акваре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Цыганка гадалка"/>
          <p:cNvPicPr/>
          <p:nvPr/>
        </p:nvPicPr>
        <p:blipFill>
          <a:blip r:embed="rId1"/>
          <a:stretch/>
        </p:blipFill>
        <p:spPr>
          <a:xfrm>
            <a:off x="3262320" y="1762200"/>
            <a:ext cx="317664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«Мария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ллюстрация к "Полтаве" Пушкина А.С.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40 г., акваре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к Полтаве"/>
          <p:cNvPicPr/>
          <p:nvPr/>
        </p:nvPicPr>
        <p:blipFill>
          <a:blip r:embed="rId1"/>
          <a:stretch/>
        </p:blipFill>
        <p:spPr>
          <a:xfrm>
            <a:off x="2843280" y="2421000"/>
            <a:ext cx="316872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Портрет дете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пнина – Волконского Н.Г.»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лст, масло, 1841 г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Портрет детей Репнина Волконского"/>
          <p:cNvPicPr/>
          <p:nvPr/>
        </p:nvPicPr>
        <p:blipFill>
          <a:blip r:embed="rId1"/>
          <a:stretch/>
        </p:blipFill>
        <p:spPr>
          <a:xfrm>
            <a:off x="2411280" y="2060640"/>
            <a:ext cx="3961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Автопортрет»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61 г., холст, масло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автопротрет"/>
          <p:cNvPicPr/>
          <p:nvPr/>
        </p:nvPicPr>
        <p:blipFill>
          <a:blip r:embed="rId1"/>
          <a:stretch/>
        </p:blipFill>
        <p:spPr>
          <a:xfrm>
            <a:off x="3059280" y="1844640"/>
            <a:ext cx="3024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Автопортрет» 1840-1843 гг.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холст, масло 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Автопортрет Шевченко"/>
          <p:cNvPicPr/>
          <p:nvPr/>
        </p:nvPicPr>
        <p:blipFill>
          <a:blip r:embed="rId1"/>
          <a:stretch/>
        </p:blipFill>
        <p:spPr>
          <a:xfrm>
            <a:off x="3203640" y="1916280"/>
            <a:ext cx="302580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Портрет Г.И. Закревской»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3 г., холст, масл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портрет Закревской"/>
          <p:cNvPicPr/>
          <p:nvPr/>
        </p:nvPicPr>
        <p:blipFill>
          <a:blip r:embed="rId1"/>
          <a:stretch/>
        </p:blipFill>
        <p:spPr>
          <a:xfrm>
            <a:off x="2657520" y="1557360"/>
            <a:ext cx="35654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ртрет Е. Кейкуатовой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2 г., холст, масло, музей Т.Г. Шевченко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портрет Кейкуатовой"/>
          <p:cNvPicPr/>
          <p:nvPr/>
        </p:nvPicPr>
        <p:blipFill>
          <a:blip r:embed="rId1"/>
          <a:stretch/>
        </p:blipFill>
        <p:spPr>
          <a:xfrm>
            <a:off x="2916360" y="1989000"/>
            <a:ext cx="3284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Казак на коне»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8-1849 гг.,бумага, акварел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казак на коне"/>
          <p:cNvPicPr/>
          <p:nvPr/>
        </p:nvPicPr>
        <p:blipFill>
          <a:blip r:embed="rId1"/>
          <a:stretch/>
        </p:blipFill>
        <p:spPr>
          <a:xfrm>
            <a:off x="1619280" y="1844640"/>
            <a:ext cx="633744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Лунная ночь»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8-1849 гг., бумага,акварел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лунная ночь"/>
          <p:cNvPicPr/>
          <p:nvPr/>
        </p:nvPicPr>
        <p:blipFill>
          <a:blip r:embed="rId1"/>
          <a:stretch/>
        </p:blipFill>
        <p:spPr>
          <a:xfrm>
            <a:off x="1332000" y="2133720"/>
            <a:ext cx="648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Форт Кара-Бутак»</a:t>
            </a:r>
            <a:br>
              <a:rPr sz="40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848 г., бумага, акварел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форт Кара Бутас"/>
          <p:cNvPicPr/>
          <p:nvPr/>
        </p:nvPicPr>
        <p:blipFill>
          <a:blip r:embed="rId1"/>
          <a:stretch/>
        </p:blipFill>
        <p:spPr>
          <a:xfrm>
            <a:off x="1908000" y="1989000"/>
            <a:ext cx="5329440" cy="36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«Шхуны у форта Кос-Арал»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умага, акваре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шхуны у форта Кос Арал"/>
          <p:cNvPicPr/>
          <p:nvPr/>
        </p:nvPicPr>
        <p:blipFill>
          <a:blip r:embed="rId1"/>
          <a:stretch/>
        </p:blipFill>
        <p:spPr>
          <a:xfrm>
            <a:off x="1403280" y="1989000"/>
            <a:ext cx="64818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4:13:28Z</dcterms:created>
  <dc:creator>Librarian</dc:creator>
  <dc:description/>
  <dc:language>en-US</dc:language>
  <cp:lastModifiedBy>Librarian</cp:lastModifiedBy>
  <dcterms:modified xsi:type="dcterms:W3CDTF">2012-03-02T14:02:12Z</dcterms:modified>
  <cp:revision>15</cp:revision>
  <dc:subject/>
  <dc:title>Слайд 1</dc:title>
</cp:coreProperties>
</file>