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C1F4-509B-4F02-A2EB-6AE2A817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899F-E4E7-445D-84DF-07429E33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57C-87AF-4B48-B2FE-8D894B96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3CBC-0DE0-4959-9D95-A9E90527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4FD8A-8F3F-4871-8C37-C7A47C43B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1C0CE-734F-48D6-B925-01183239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FA525-0F2E-43BD-9104-59F94843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84991-E42E-45BA-B480-3B03C0F4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B640E-7427-448D-8CDC-7002306B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DFC841-E577-482E-A365-A23038514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32DB13-422A-45EB-A996-F4910FA2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4D55-17D3-4324-AFFA-C64D6EB1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2D69A-0234-4A49-8112-DF0EFA50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30B7C-A4A6-4227-8510-227A391F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6230E-9CB7-418F-BE90-AEF5142CD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A9018C-79FE-4150-A026-71812EDCD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3CF7A-9FF5-4793-85AB-73303D4C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8C4D4-40ED-4E9A-84D2-7C62344C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B7C97-2472-4BB8-8AF2-033633DB5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0685E-7A5A-4F3C-8C2E-F35FD57B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BFB00-C7C8-4111-8CAD-1FF26159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53872-7165-4AC3-A4AE-CA2CFF6A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EE72-F60C-4288-956C-9F73C8A8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FCC2A-2FE3-401E-94BA-77417E7FD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3D7D3-0CDC-4E38-9D99-F0236439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3917F-5B85-4D5A-8C93-BA733575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9613B-3C37-413B-B7C3-A4D65F3F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BCBC7-0CC8-4F63-8219-2042AAB0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CE835-5DCE-4DA5-8FA8-FC5914179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BE3A3-8F7C-45AF-B348-C9D96D91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2C145C-58B0-4F98-AFA8-2E798C66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89692A-067F-4027-A2E0-4522CD9D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B2A1AC-C901-4AC0-8703-FB821282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6B71-8A56-4DB7-AFF5-18EB0628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739216-FE4C-45BA-BE8C-178B8DEA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1F105E-FB6D-4FE7-8D7D-CE64F1ED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2430A7-6CCC-4A79-85E5-E2782280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1C02EA-A8FA-44CC-9471-B8A331AF3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B01154-19D2-4345-B39B-9BB60F91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30F725-962F-4276-83CC-EED774D1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339C9A-8F0F-4182-9238-D7037026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1E9D0A-D49A-48DB-A23B-4BD3E890C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672EF8-A23E-415B-8196-33A2C655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CB7562-8EFD-4893-89D4-35B1F281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DCD9-0B8A-4CC9-A6AB-AB5DDD96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A852DF-7B03-4EED-ABEB-BEAD78B2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6CBB8E-3743-4702-AE60-FF7374EB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B84CF-D18C-4B08-B43B-B3F3D3CF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FE3F53-DB45-486B-8235-F4B9FA57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2725F-A2FA-4669-A788-F8BF55EB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3A569-1123-4B46-B887-078FA06F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186C1-5F71-4F70-A0C0-56A18D3A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84646A-448B-4BB4-9FEB-4A6DC6D5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13AA9-64D7-42B6-9EB4-2D193823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089D7-DCFA-4034-8898-B4F6E308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DE4E-F8C1-4A99-AAFD-AC3CEBED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3FB7B6-562B-46B5-A860-C0D5E2C6A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B786BE-0E34-4BD1-B3E8-C9E1318C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F0E905-ECFD-4C49-8CB1-1534E7A4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363632-499E-4627-8DE5-CC6E6463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73D959-67D6-4102-8F36-0972ADFC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FCF95-25B2-4F72-B4BD-CF3B60E4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9C3DE7-04F6-43D2-B849-5EFF21DF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6F414-4E50-4A94-BE37-05987F97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E3CB80-B7B9-499D-B2CC-D02F4C04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B1619C-C361-4079-B8A2-DBA72B10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2147-A273-4475-81CC-F2F287D1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E78D8E-3841-42C4-B601-FF0973F8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C4F789-DF8E-46B5-A2BF-8440E606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B1696D-43F1-414F-A963-BB08DEC16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630-7C36-400A-81EF-6975A425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52CA-0FB2-4FFA-B45D-2F6C29C8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2114-5F98-4F54-9165-74772328500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Овал 10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A169-29FF-4FB0-9AE6-6ACFFACAAC4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BD65-E790-4D6D-AABF-5BC769C47EDF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1ED2-8039-43F3-A518-375C53D576B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030D-18B1-4699-876F-5A30CED7B60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15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7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F4AF-F9B9-450C-B8DE-3774C512E1D4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1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Прямоугольник 4" descr=""/>
          <p:cNvPicPr/>
          <p:nvPr/>
        </p:nvPicPr>
        <p:blipFill>
          <a:blip r:embed="rId1"/>
          <a:stretch/>
        </p:blipFill>
        <p:spPr>
          <a:xfrm>
            <a:off x="639720" y="2730600"/>
            <a:ext cx="8199360" cy="115236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C:\Documents and Settings\Администратор\Рабочий стол\Фото старинная Одеса\25440107_odessa2.jpg"/>
          <p:cNvPicPr/>
          <p:nvPr/>
        </p:nvPicPr>
        <p:blipFill>
          <a:blip r:embed="rId1"/>
          <a:stretch/>
        </p:blipFill>
        <p:spPr>
          <a:xfrm>
            <a:off x="928800" y="857160"/>
            <a:ext cx="7286400" cy="521496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C:\Documents and Settings\Администратор\Рабочий стол\Фото старинная Одеса\1275216776_73e4bade6908d7c1e602a9bdd47ecae8.jpg"/>
          <p:cNvPicPr/>
          <p:nvPr/>
        </p:nvPicPr>
        <p:blipFill>
          <a:blip r:embed="rId1"/>
          <a:stretch/>
        </p:blipFill>
        <p:spPr>
          <a:xfrm>
            <a:off x="857160" y="928800"/>
            <a:ext cx="7358040" cy="516708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C:\Documents and Settings\Администратор\Рабочий стол\Фото старинная Одеса\1275216809_0342930d230f6f7850161ca084574f5f.jpg"/>
          <p:cNvPicPr/>
          <p:nvPr/>
        </p:nvPicPr>
        <p:blipFill>
          <a:blip r:embed="rId1"/>
          <a:stretch/>
        </p:blipFill>
        <p:spPr>
          <a:xfrm>
            <a:off x="714240" y="500040"/>
            <a:ext cx="3500640" cy="5500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" descr="C:\Documents and Settings\Администратор\Рабочий стол\Фото старинная Одеса\1275216874_d0953b80fece15cdebb7111066c5f453.jpg"/>
          <p:cNvPicPr/>
          <p:nvPr/>
        </p:nvPicPr>
        <p:blipFill>
          <a:blip r:embed="rId2"/>
          <a:stretch/>
        </p:blipFill>
        <p:spPr>
          <a:xfrm>
            <a:off x="4786200" y="500040"/>
            <a:ext cx="3357720" cy="550080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Documents and Settings\Администратор\Рабочий стол\Фото старинная Одеса\ce871dbc9c14be4d9b9b463c2ad1e03c.jpg"/>
          <p:cNvPicPr/>
          <p:nvPr/>
        </p:nvPicPr>
        <p:blipFill>
          <a:blip r:embed="rId1"/>
          <a:stretch/>
        </p:blipFill>
        <p:spPr>
          <a:xfrm>
            <a:off x="1000080" y="785880"/>
            <a:ext cx="7072200" cy="522432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C:\Documents and Settings\Администратор\Рабочий стол\Фото старинная Одеса\b6769c3a3898728f89886ad85be8ec52.jpg"/>
          <p:cNvPicPr/>
          <p:nvPr/>
        </p:nvPicPr>
        <p:blipFill>
          <a:blip r:embed="rId1"/>
          <a:stretch/>
        </p:blipFill>
        <p:spPr>
          <a:xfrm>
            <a:off x="928800" y="928800"/>
            <a:ext cx="7286400" cy="514332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C:\Documents and Settings\Администратор\Рабочий стол\Фото старинная Одеса\b0fffc1bdcc7325b760b76de21655c0e.jpg"/>
          <p:cNvPicPr/>
          <p:nvPr/>
        </p:nvPicPr>
        <p:blipFill>
          <a:blip r:embed="rId1"/>
          <a:stretch/>
        </p:blipFill>
        <p:spPr>
          <a:xfrm>
            <a:off x="928800" y="857160"/>
            <a:ext cx="7215120" cy="521496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C:\Documents and Settings\Администратор\Рабочий стол\Фото старинная Одеса\1275216877_43ca1c1508a0cfdf69fc4ec60e2aaef9.jpg"/>
          <p:cNvPicPr/>
          <p:nvPr/>
        </p:nvPicPr>
        <p:blipFill>
          <a:blip r:embed="rId1"/>
          <a:stretch/>
        </p:blipFill>
        <p:spPr>
          <a:xfrm>
            <a:off x="857160" y="928800"/>
            <a:ext cx="7286760" cy="507204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3" descr="C:\Documents and Settings\Администратор\Рабочий стол\Фото старинная Одеса\37a099d16bfd56434f70b32234806522.jpg"/>
          <p:cNvPicPr/>
          <p:nvPr/>
        </p:nvPicPr>
        <p:blipFill>
          <a:blip r:embed="rId1"/>
          <a:stretch/>
        </p:blipFill>
        <p:spPr>
          <a:xfrm>
            <a:off x="928800" y="857160"/>
            <a:ext cx="7215120" cy="523872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3" descr="C:\Documents and Settings\Администратор\Рабочий стол\Фото старинная Одеса\1275216852_78d59050c7af00650b231c3852f16c48.jpg"/>
          <p:cNvPicPr/>
          <p:nvPr/>
        </p:nvPicPr>
        <p:blipFill>
          <a:blip r:embed="rId1"/>
          <a:stretch/>
        </p:blipFill>
        <p:spPr>
          <a:xfrm>
            <a:off x="4929120" y="571680"/>
            <a:ext cx="3524400" cy="53924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C:\Documents and Settings\Администратор\Рабочий стол\Фото старинная Одеса\Old_Odessa_019.jpg"/>
          <p:cNvPicPr/>
          <p:nvPr/>
        </p:nvPicPr>
        <p:blipFill>
          <a:blip r:embed="rId2"/>
          <a:stretch/>
        </p:blipFill>
        <p:spPr>
          <a:xfrm>
            <a:off x="642960" y="571680"/>
            <a:ext cx="3875040" cy="542916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F:\Фото старинная Одеса\5.jpg"/>
          <p:cNvPicPr/>
          <p:nvPr/>
        </p:nvPicPr>
        <p:blipFill>
          <a:blip r:embed="rId1"/>
          <a:stretch/>
        </p:blipFill>
        <p:spPr>
          <a:xfrm>
            <a:off x="642960" y="785880"/>
            <a:ext cx="7715160" cy="535788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14240" y="642600"/>
            <a:ext cx="7972560" cy="5452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Documents and Settings\Администратор\Рабочий стол\Фото старинная Одеса\e201b073695636c0a6ed2603dafd9f09.jpg"/>
          <p:cNvPicPr/>
          <p:nvPr/>
        </p:nvPicPr>
        <p:blipFill>
          <a:blip r:embed="rId2"/>
          <a:stretch/>
        </p:blipFill>
        <p:spPr>
          <a:xfrm>
            <a:off x="857160" y="789120"/>
            <a:ext cx="7358040" cy="527976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F:\Фото старинная Одеса\11.jpg"/>
          <p:cNvPicPr/>
          <p:nvPr/>
        </p:nvPicPr>
        <p:blipFill>
          <a:blip r:embed="rId1"/>
          <a:stretch/>
        </p:blipFill>
        <p:spPr>
          <a:xfrm>
            <a:off x="714240" y="857160"/>
            <a:ext cx="7572600" cy="514368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F:\Фото старинная Одеса\duk_2.jpg"/>
          <p:cNvPicPr/>
          <p:nvPr/>
        </p:nvPicPr>
        <p:blipFill>
          <a:blip r:embed="rId1"/>
          <a:stretch/>
        </p:blipFill>
        <p:spPr>
          <a:xfrm>
            <a:off x="785880" y="857160"/>
            <a:ext cx="7572240" cy="535788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C:\Documents and Settings\Администратор\Рабочий стол\Фото старинная Одеса\15328d9c1d669c660c8d098ce2d00374.jpg"/>
          <p:cNvPicPr/>
          <p:nvPr/>
        </p:nvPicPr>
        <p:blipFill>
          <a:blip r:embed="rId1"/>
          <a:stretch/>
        </p:blipFill>
        <p:spPr>
          <a:xfrm>
            <a:off x="857160" y="857160"/>
            <a:ext cx="7429680" cy="505800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C:\Documents and Settings\Администратор\Рабочий стол\Фото старинная Одеса\637cce6ab618da2d58448b44fabef323.jpg"/>
          <p:cNvPicPr/>
          <p:nvPr/>
        </p:nvPicPr>
        <p:blipFill>
          <a:blip r:embed="rId1"/>
          <a:stretch/>
        </p:blipFill>
        <p:spPr>
          <a:xfrm>
            <a:off x="928800" y="1000080"/>
            <a:ext cx="7286400" cy="514368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:\Documents and Settings\Администратор\Рабочий стол\Фото старинная Одеса\31cbec0f7a99a2d4ccc8411e7d932254.jpg"/>
          <p:cNvPicPr/>
          <p:nvPr/>
        </p:nvPicPr>
        <p:blipFill>
          <a:blip r:embed="rId1"/>
          <a:stretch/>
        </p:blipFill>
        <p:spPr>
          <a:xfrm>
            <a:off x="928800" y="928800"/>
            <a:ext cx="7215120" cy="508140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C:\Documents and Settings\Администратор\Рабочий стол\Фото старинная Одеса\3972b7e8e19af2facfa95df713e720b6.jpg"/>
          <p:cNvPicPr/>
          <p:nvPr/>
        </p:nvPicPr>
        <p:blipFill>
          <a:blip r:embed="rId1"/>
          <a:stretch/>
        </p:blipFill>
        <p:spPr>
          <a:xfrm>
            <a:off x="857160" y="714240"/>
            <a:ext cx="7358040" cy="5429520"/>
          </a:xfrm>
          <a:prstGeom prst="rect">
            <a:avLst/>
          </a:prstGeom>
          <a:ln w="0">
            <a:noFill/>
          </a:ln>
        </p:spPr>
      </p:pic>
    </p:spTree>
  </p:cSld>
  <p:transition advTm="3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ihovsky</cp:lastModifiedBy>
  <dcterms:modified xsi:type="dcterms:W3CDTF">2012-08-31T08:23:08Z</dcterms:modified>
  <cp:revision>10</cp:revision>
  <dc:subject/>
  <dc:title>Слайд 1</dc:title>
</cp:coreProperties>
</file>