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054-B25D-4723-B18F-C16D2595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FA8-8266-482A-B98D-914D6380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CB3-4E21-4B55-B3AE-28F8F5FD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E54-D00B-4A6B-B2A9-BCAA7636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905B5-4569-4695-A96A-17B81EC7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86DFC-8C97-44EE-BBAE-23B1B4B4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5516B-C0F4-430B-9A23-55C7FD34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4C7EE-67CE-430F-BA11-683A5DC0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6EF59-E459-4E35-AA88-D2C6021F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4BCD6-4A36-4982-BD0A-FEF56E75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8FDA4-1B88-4634-A163-E9CAEFD8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B5D-183B-4BF2-9BEC-BB66CFAD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94F10-317C-4D11-82E4-15F4A32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29F52-271E-4CBD-A6D8-09D740B1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2C157-5B4D-4D5A-8673-4E6F842B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E84DB-253E-4D5F-9439-C196BBDF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41118-00EB-453D-BD9C-DBE3197A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4AD0-929D-4D93-86F1-856DD463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A429-80B6-4470-A2A4-C5A9A491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E5D94-4DCF-4AC2-9C93-41D0DF04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7771-30C5-4D97-8C37-20BB80AE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A84A-5D48-4819-A579-273E0189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093-EEDD-4E9D-A7C6-85980A32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1BB0-AA3B-459D-BFB9-1CADBAA6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203E-A20F-4EBA-8705-E4C72E3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8CB0-7FE1-4589-BD69-F248EB74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930E6-BCC6-4C72-93F5-274A41B4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18C7-92D7-491E-8EEF-0E7BD5D7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597D-5D09-4A1D-A870-761DAF6C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DFD4-7974-4E30-8859-126C2610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03073-C369-44E3-A287-D1170D35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39013-9F67-417B-8AF6-2856F6C0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5BE27-8228-4626-BE2F-3DA3139F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D5E-7B37-4933-8B65-3C136A83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16CA7-E695-4F14-A6AE-1712567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C68E6-4C0A-41DD-93B8-6565D10F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0E295-0B15-4CFF-A659-D90CB476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43F59-CAFD-4C17-8227-76CB749B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0243A-C202-440F-9BE0-3A721218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5295F-3B03-48D9-A6F2-89121A48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DC01C-E376-4CD7-9790-B7797563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BEE1D-4843-41AE-9AE6-5A2C72FF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F8A0D-DF25-46E4-A8EA-33ABF62F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685F1-BFF2-4E0F-9677-9668C0A9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9EA-F7F6-411C-8D84-7471701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3DEFF-4BDF-4039-AB55-1FE0CCF6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235F8-B478-4952-8DD0-5BDDAA0A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828E3-D8EB-474E-83B9-ABBAF909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77D7C-DC6C-4509-AAC7-31402E4C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0DF06-DB45-4FE9-A13E-2DC9CEA5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8C071-D04F-4D74-98B5-B620E8E1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74DFF-F42F-463B-AC57-6256152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57741-241D-4ABF-8366-E6C524F7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85D9A-8924-4A43-B4BF-A5A1CE4F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35ACD-3DBB-4B05-B71F-8CDF0606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573-87A8-4757-A795-BB661FC8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0C252-99D1-4132-8AA9-87832466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4AD8F-2D2A-43BE-9CAC-B3BF7E72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5A9DE-DC37-44A3-8BCE-95F81D7E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36016-2389-4072-A6FE-D8E4EC1E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8C17C-9CF8-4D84-8B18-6F314980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88BDB-F01D-47A4-B4BB-09066A62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480E9-DD45-43C6-A34B-1001EE09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8C058-B1F1-4563-8F66-D8ADD10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2D698-D11C-4B0A-AE77-E4E32D78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7AA21-56F3-4037-A1D2-F46CEBA7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A9B-96DC-435C-9702-469C7443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81959-8F5A-431A-B3B7-48DEFD6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7239A-4BA3-4222-97A1-745AFA74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FBD43-4A6E-4F31-BB46-60C2EF69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10C-3D31-4E24-9EBC-D4F5BC69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492-33E9-4E3B-AD33-8FF1D17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F180-0416-4D39-B552-D7E0FF0B402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FA64-4A0A-44D9-9730-DB5DA4B19BD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B892-A732-47C1-810A-EC31AC9B70B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1F84-E0CF-4487-A737-5C39FD69EA2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7F27-D82F-4600-856C-66FC03CAAA9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C5B4-A5C4-4DF6-B7BF-9D86E666A25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4" descr=""/>
          <p:cNvPicPr/>
          <p:nvPr/>
        </p:nvPicPr>
        <p:blipFill>
          <a:blip r:embed="rId1"/>
          <a:stretch/>
        </p:blipFill>
        <p:spPr>
          <a:xfrm>
            <a:off x="639720" y="2730600"/>
            <a:ext cx="8199360" cy="11523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Администратор\Рабочий стол\Фото старинная Одеса\25440107_odessa2.jpg"/>
          <p:cNvPicPr/>
          <p:nvPr/>
        </p:nvPicPr>
        <p:blipFill>
          <a:blip r:embed="rId1"/>
          <a:stretch/>
        </p:blipFill>
        <p:spPr>
          <a:xfrm>
            <a:off x="928800" y="857160"/>
            <a:ext cx="7286400" cy="52149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Documents and Settings\Администратор\Рабочий стол\Фото старинная Одеса\1275216776_73e4bade6908d7c1e602a9bdd47ecae8.jpg"/>
          <p:cNvPicPr/>
          <p:nvPr/>
        </p:nvPicPr>
        <p:blipFill>
          <a:blip r:embed="rId1"/>
          <a:stretch/>
        </p:blipFill>
        <p:spPr>
          <a:xfrm>
            <a:off x="857160" y="928800"/>
            <a:ext cx="7358040" cy="51670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Documents and Settings\Администратор\Рабочий стол\Фото старинная Одеса\1275216809_0342930d230f6f7850161ca084574f5f.jpg"/>
          <p:cNvPicPr/>
          <p:nvPr/>
        </p:nvPicPr>
        <p:blipFill>
          <a:blip r:embed="rId1"/>
          <a:stretch/>
        </p:blipFill>
        <p:spPr>
          <a:xfrm>
            <a:off x="714240" y="500040"/>
            <a:ext cx="3500640" cy="5500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Администратор\Рабочий стол\Фото старинная Одеса\1275216874_d0953b80fece15cdebb7111066c5f453.jpg"/>
          <p:cNvPicPr/>
          <p:nvPr/>
        </p:nvPicPr>
        <p:blipFill>
          <a:blip r:embed="rId2"/>
          <a:stretch/>
        </p:blipFill>
        <p:spPr>
          <a:xfrm>
            <a:off x="4786200" y="500040"/>
            <a:ext cx="3357720" cy="55008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Documents and Settings\Администратор\Рабочий стол\Фото старинная Одеса\ce871dbc9c14be4d9b9b463c2ad1e03c.jpg"/>
          <p:cNvPicPr/>
          <p:nvPr/>
        </p:nvPicPr>
        <p:blipFill>
          <a:blip r:embed="rId1"/>
          <a:stretch/>
        </p:blipFill>
        <p:spPr>
          <a:xfrm>
            <a:off x="1000080" y="785880"/>
            <a:ext cx="7072200" cy="52243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Documents and Settings\Администратор\Рабочий стол\Фото старинная Одеса\b6769c3a3898728f89886ad85be8ec52.jpg"/>
          <p:cNvPicPr/>
          <p:nvPr/>
        </p:nvPicPr>
        <p:blipFill>
          <a:blip r:embed="rId1"/>
          <a:stretch/>
        </p:blipFill>
        <p:spPr>
          <a:xfrm>
            <a:off x="928800" y="928800"/>
            <a:ext cx="7286400" cy="51433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Documents and Settings\Администратор\Рабочий стол\Фото старинная Одеса\b0fffc1bdcc7325b760b76de21655c0e.jpg"/>
          <p:cNvPicPr/>
          <p:nvPr/>
        </p:nvPicPr>
        <p:blipFill>
          <a:blip r:embed="rId1"/>
          <a:stretch/>
        </p:blipFill>
        <p:spPr>
          <a:xfrm>
            <a:off x="928800" y="857160"/>
            <a:ext cx="7215120" cy="52149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Documents and Settings\Администратор\Рабочий стол\Фото старинная Одеса\1275216877_43ca1c1508a0cfdf69fc4ec60e2aaef9.jpg"/>
          <p:cNvPicPr/>
          <p:nvPr/>
        </p:nvPicPr>
        <p:blipFill>
          <a:blip r:embed="rId1"/>
          <a:stretch/>
        </p:blipFill>
        <p:spPr>
          <a:xfrm>
            <a:off x="857160" y="928800"/>
            <a:ext cx="7286760" cy="507204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Администратор\Рабочий стол\Фото старинная Одеса\37a099d16bfd56434f70b32234806522.jpg"/>
          <p:cNvPicPr/>
          <p:nvPr/>
        </p:nvPicPr>
        <p:blipFill>
          <a:blip r:embed="rId1"/>
          <a:stretch/>
        </p:blipFill>
        <p:spPr>
          <a:xfrm>
            <a:off x="928800" y="857160"/>
            <a:ext cx="7215120" cy="52387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C:\Documents and Settings\Администратор\Рабочий стол\Фото старинная Одеса\1275216852_78d59050c7af00650b231c3852f16c48.jpg"/>
          <p:cNvPicPr/>
          <p:nvPr/>
        </p:nvPicPr>
        <p:blipFill>
          <a:blip r:embed="rId1"/>
          <a:stretch/>
        </p:blipFill>
        <p:spPr>
          <a:xfrm>
            <a:off x="4929120" y="571680"/>
            <a:ext cx="3524400" cy="5392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Documents and Settings\Администратор\Рабочий стол\Фото старинная Одеса\Old_Odessa_019.jpg"/>
          <p:cNvPicPr/>
          <p:nvPr/>
        </p:nvPicPr>
        <p:blipFill>
          <a:blip r:embed="rId2"/>
          <a:stretch/>
        </p:blipFill>
        <p:spPr>
          <a:xfrm>
            <a:off x="642960" y="571680"/>
            <a:ext cx="3875040" cy="54291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F:\Фото старинная Одеса\5.jpg"/>
          <p:cNvPicPr/>
          <p:nvPr/>
        </p:nvPicPr>
        <p:blipFill>
          <a:blip r:embed="rId1"/>
          <a:stretch/>
        </p:blipFill>
        <p:spPr>
          <a:xfrm>
            <a:off x="642960" y="785880"/>
            <a:ext cx="7715160" cy="53578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14240" y="642600"/>
            <a:ext cx="7972560" cy="5452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Администратор\Рабочий стол\Фото старинная Одеса\e201b073695636c0a6ed2603dafd9f09.jpg"/>
          <p:cNvPicPr/>
          <p:nvPr/>
        </p:nvPicPr>
        <p:blipFill>
          <a:blip r:embed="rId2"/>
          <a:stretch/>
        </p:blipFill>
        <p:spPr>
          <a:xfrm>
            <a:off x="857160" y="789120"/>
            <a:ext cx="7358040" cy="52797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:\Фото старинная Одеса\11.jpg"/>
          <p:cNvPicPr/>
          <p:nvPr/>
        </p:nvPicPr>
        <p:blipFill>
          <a:blip r:embed="rId1"/>
          <a:stretch/>
        </p:blipFill>
        <p:spPr>
          <a:xfrm>
            <a:off x="714240" y="857160"/>
            <a:ext cx="7572600" cy="51436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F:\Фото старинная Одеса\duk_2.jpg"/>
          <p:cNvPicPr/>
          <p:nvPr/>
        </p:nvPicPr>
        <p:blipFill>
          <a:blip r:embed="rId1"/>
          <a:stretch/>
        </p:blipFill>
        <p:spPr>
          <a:xfrm>
            <a:off x="785880" y="857160"/>
            <a:ext cx="7572240" cy="53578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Администратор\Рабочий стол\Фото старинная Одеса\15328d9c1d669c660c8d098ce2d00374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0580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Documents and Settings\Администратор\Рабочий стол\Фото старинная Одеса\637cce6ab618da2d58448b44fabef323.jpg"/>
          <p:cNvPicPr/>
          <p:nvPr/>
        </p:nvPicPr>
        <p:blipFill>
          <a:blip r:embed="rId1"/>
          <a:stretch/>
        </p:blipFill>
        <p:spPr>
          <a:xfrm>
            <a:off x="928800" y="1000080"/>
            <a:ext cx="7286400" cy="51436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Documents and Settings\Администратор\Рабочий стол\Фото старинная Одеса\31cbec0f7a99a2d4ccc8411e7d932254.jpg"/>
          <p:cNvPicPr/>
          <p:nvPr/>
        </p:nvPicPr>
        <p:blipFill>
          <a:blip r:embed="rId1"/>
          <a:stretch/>
        </p:blipFill>
        <p:spPr>
          <a:xfrm>
            <a:off x="928800" y="928800"/>
            <a:ext cx="7215120" cy="50814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Администратор\Рабочий стол\Фото старинная Одеса\3972b7e8e19af2facfa95df713e720b6.jpg"/>
          <p:cNvPicPr/>
          <p:nvPr/>
        </p:nvPicPr>
        <p:blipFill>
          <a:blip r:embed="rId1"/>
          <a:stretch/>
        </p:blipFill>
        <p:spPr>
          <a:xfrm>
            <a:off x="857160" y="714240"/>
            <a:ext cx="7358040" cy="54295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hovsky</cp:lastModifiedBy>
  <dcterms:modified xsi:type="dcterms:W3CDTF">2012-08-31T08:23:08Z</dcterms:modified>
  <cp:revision>10</cp:revision>
  <dc:subject/>
  <dc:title>Слайд 1</dc:title>
</cp:coreProperties>
</file>