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164-E3D1-4296-AD20-B1462484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813-5271-488A-AFCD-45FBB86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A35-A2A2-42A5-8850-C34F7B8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CE3-737C-4006-A613-82E462A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525B8-462C-45BB-972F-BC81FCA7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FFCA8-2126-4CF9-B32D-C9CDB37F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97C5D-384C-4704-BD2D-91821ECF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DDA39-506B-4862-86C4-17B2A0B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5CAA1-D02B-42A7-B0EC-1D752AA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AD261-2EEC-4728-BECD-1CF3B55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540FB-CCB1-40D5-8856-877A8BD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4FE-981F-4B4E-9F78-9FB1F732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51C69-D130-408E-B70F-CCA7499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75B19-69A9-4A41-AB5C-E2B9DB3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57391-E6CE-4C29-A87C-C8EC02A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4214-A5CB-460D-80B0-0CE4A3AB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42A9-33DF-4EAF-B47E-63457865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FD6B-4EB4-4CA7-801B-9193482E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4467-CADD-4A37-AD23-943F68A9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7420-9935-4851-8837-CB94522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D30F-DDCF-4D64-826D-03C9E5D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C5CE-5A4E-4520-A0B4-4C28197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41A-C76C-4287-AA8C-9C2EC9F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042D-EAE6-4B62-BBA9-EFEBBBA3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AE49-5A95-43B6-A043-0BEE6D0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C51F-1CDE-496D-AC9B-2F08BD2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D926-C3A5-4C5D-9358-96E5F42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2FAC-F1D0-4297-B26C-29C9412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9D7A-2640-43B4-95EE-C97AD4A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0008-5C30-4402-B920-BD1E21C8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BF1A6-FE13-4FFA-AC5B-810D26CC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9966F-F698-4FD2-8D70-51DEC0AF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AB20F-6BDF-4902-A1F6-0677E89A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528-7623-462C-BDDA-4A66A63D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20527-4491-4C1D-9709-1D0F1191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DE1C3-FEE4-4892-A34E-8983A744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868D9-95E9-4DD6-8F36-19AA4B0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F3AE6-7A06-471A-B96D-6DC6778B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88BEB-6924-4903-BA97-1AA577E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7FAD0-917A-4BB1-AF7A-98C0D28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C176E-3C7B-47DE-942D-4EEF0E3D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AFA59-A634-41CA-906B-AC4C6889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B8FDE-4CFB-4E59-A0B7-04462EB0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4E500-6389-4D8A-90B5-BB45A3C0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33D-3DB4-4D06-A458-E9BE2CC8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862E5-6FAE-4C63-B663-A5AF05D9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DD158-B233-47FF-8918-FA9EA0A9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16912-5471-4666-A0FB-4EE8BF4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4D1FE-5BFC-4611-98E7-FD6A56F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2A5F2-5CFA-4EC0-AB89-A0E7733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37B65-967A-4854-ADB9-001A3058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77588-4F9F-401A-AEB9-1CA32F0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98C23-437E-41F5-8230-C0D1854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12948-A88D-4D8C-861D-52DCA3F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94EDF-3330-4AC1-BBDA-7FFB391B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A8B-7C4D-445A-95EA-EE39783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FAE5F-F37D-4E16-BA8B-75875C05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B7AA3-21B5-4C57-844B-8858509F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83679-128D-4896-A841-8D3CD64C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86975-B32F-4302-A540-73BC70B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A0BB4-F0D5-451F-BE20-3097D5A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ADD98-3FB1-40DE-98E5-56F5FA92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DDE09-24F3-435F-B378-EE630964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13AA0-AB49-4F88-9644-0665017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8FB83-EF93-47A7-8BA8-072E146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970FA-C685-4450-B3F5-8503FF3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AAD-0F53-429D-9D27-A42C791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22731-B572-418A-A85F-EF39C59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5004A-2F16-4757-A4F9-F2CB282E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69D2E-E41D-47A9-93D7-460ACC84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E83-D13E-4517-9235-73BABCB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9C7-4C21-4502-9338-E6E86D9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DA81-7DBD-4AB4-86EB-31F7729FB96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0A6-E95E-4B56-B5BD-4BD2C617ED7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B5D5-132A-4015-B18E-67FCCCF41CD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5DB2-51A4-4550-ABA8-CFB525725EC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BA38-7674-4347-ADD8-4FEC1DDF864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125-36D8-46EC-A0BF-1A0CAACB29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639720" y="2730600"/>
            <a:ext cx="8199360" cy="11523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Администратор\Рабочий стол\Фото старинная Одеса\25440107_odessa2.jpg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2149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Администратор\Рабочий стол\Фото старинная Одеса\1275216776_73e4bade6908d7c1e602a9bdd47ecae8.jpg"/>
          <p:cNvPicPr/>
          <p:nvPr/>
        </p:nvPicPr>
        <p:blipFill>
          <a:blip r:embed="rId1"/>
          <a:stretch/>
        </p:blipFill>
        <p:spPr>
          <a:xfrm>
            <a:off x="857160" y="928800"/>
            <a:ext cx="7358040" cy="51670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Documents and Settings\Администратор\Рабочий стол\Фото старинная Одеса\1275216809_0342930d230f6f7850161ca084574f5f.jpg"/>
          <p:cNvPicPr/>
          <p:nvPr/>
        </p:nvPicPr>
        <p:blipFill>
          <a:blip r:embed="rId1"/>
          <a:stretch/>
        </p:blipFill>
        <p:spPr>
          <a:xfrm>
            <a:off x="714240" y="500040"/>
            <a:ext cx="3500640" cy="550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Рабочий стол\Фото старинная Одеса\1275216874_d0953b80fece15cdebb7111066c5f453.jpg"/>
          <p:cNvPicPr/>
          <p:nvPr/>
        </p:nvPicPr>
        <p:blipFill>
          <a:blip r:embed="rId2"/>
          <a:stretch/>
        </p:blipFill>
        <p:spPr>
          <a:xfrm>
            <a:off x="4786200" y="500040"/>
            <a:ext cx="3357720" cy="55008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Documents and Settings\Администратор\Рабочий стол\Фото старинная Одеса\ce871dbc9c14be4d9b9b463c2ad1e03c.jpg"/>
          <p:cNvPicPr/>
          <p:nvPr/>
        </p:nvPicPr>
        <p:blipFill>
          <a:blip r:embed="rId1"/>
          <a:stretch/>
        </p:blipFill>
        <p:spPr>
          <a:xfrm>
            <a:off x="1000080" y="785880"/>
            <a:ext cx="7072200" cy="52243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Администратор\Рабочий стол\Фото старинная Одеса\b6769c3a3898728f89886ad85be8ec52.jpg"/>
          <p:cNvPicPr/>
          <p:nvPr/>
        </p:nvPicPr>
        <p:blipFill>
          <a:blip r:embed="rId1"/>
          <a:stretch/>
        </p:blipFill>
        <p:spPr>
          <a:xfrm>
            <a:off x="928800" y="928800"/>
            <a:ext cx="7286400" cy="51433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Documents and Settings\Администратор\Рабочий стол\Фото старинная Одеса\b0fffc1bdcc7325b760b76de21655c0e.jpg"/>
          <p:cNvPicPr/>
          <p:nvPr/>
        </p:nvPicPr>
        <p:blipFill>
          <a:blip r:embed="rId1"/>
          <a:stretch/>
        </p:blipFill>
        <p:spPr>
          <a:xfrm>
            <a:off x="928800" y="857160"/>
            <a:ext cx="7215120" cy="52149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Администратор\Рабочий стол\Фото старинная Одеса\1275216877_43ca1c1508a0cfdf69fc4ec60e2aaef9.jpg"/>
          <p:cNvPicPr/>
          <p:nvPr/>
        </p:nvPicPr>
        <p:blipFill>
          <a:blip r:embed="rId1"/>
          <a:stretch/>
        </p:blipFill>
        <p:spPr>
          <a:xfrm>
            <a:off x="857160" y="928800"/>
            <a:ext cx="7286760" cy="507204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Администратор\Рабочий стол\Фото старинная Одеса\37a099d16bfd56434f70b32234806522.jpg"/>
          <p:cNvPicPr/>
          <p:nvPr/>
        </p:nvPicPr>
        <p:blipFill>
          <a:blip r:embed="rId1"/>
          <a:stretch/>
        </p:blipFill>
        <p:spPr>
          <a:xfrm>
            <a:off x="928800" y="857160"/>
            <a:ext cx="7215120" cy="52387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C:\Documents and Settings\Администратор\Рабочий стол\Фото старинная Одеса\1275216852_78d59050c7af00650b231c3852f16c48.jpg"/>
          <p:cNvPicPr/>
          <p:nvPr/>
        </p:nvPicPr>
        <p:blipFill>
          <a:blip r:embed="rId1"/>
          <a:stretch/>
        </p:blipFill>
        <p:spPr>
          <a:xfrm>
            <a:off x="4929120" y="571680"/>
            <a:ext cx="3524400" cy="539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Documents and Settings\Администратор\Рабочий стол\Фото старинная Одеса\Old_Odessa_019.jpg"/>
          <p:cNvPicPr/>
          <p:nvPr/>
        </p:nvPicPr>
        <p:blipFill>
          <a:blip r:embed="rId2"/>
          <a:stretch/>
        </p:blipFill>
        <p:spPr>
          <a:xfrm>
            <a:off x="642960" y="571680"/>
            <a:ext cx="3875040" cy="54291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F:\Фото старинная Одеса\5.jpg"/>
          <p:cNvPicPr/>
          <p:nvPr/>
        </p:nvPicPr>
        <p:blipFill>
          <a:blip r:embed="rId1"/>
          <a:stretch/>
        </p:blipFill>
        <p:spPr>
          <a:xfrm>
            <a:off x="642960" y="785880"/>
            <a:ext cx="7715160" cy="53578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14240" y="642600"/>
            <a:ext cx="7972560" cy="5452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Администратор\Рабочий стол\Фото старинная Одеса\e201b073695636c0a6ed2603dafd9f09.jpg"/>
          <p:cNvPicPr/>
          <p:nvPr/>
        </p:nvPicPr>
        <p:blipFill>
          <a:blip r:embed="rId2"/>
          <a:stretch/>
        </p:blipFill>
        <p:spPr>
          <a:xfrm>
            <a:off x="857160" y="789120"/>
            <a:ext cx="7358040" cy="52797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:\Фото старинная Одеса\11.jpg"/>
          <p:cNvPicPr/>
          <p:nvPr/>
        </p:nvPicPr>
        <p:blipFill>
          <a:blip r:embed="rId1"/>
          <a:stretch/>
        </p:blipFill>
        <p:spPr>
          <a:xfrm>
            <a:off x="714240" y="857160"/>
            <a:ext cx="7572600" cy="51436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Фото старинная Одеса\duk_2.jpg"/>
          <p:cNvPicPr/>
          <p:nvPr/>
        </p:nvPicPr>
        <p:blipFill>
          <a:blip r:embed="rId1"/>
          <a:stretch/>
        </p:blipFill>
        <p:spPr>
          <a:xfrm>
            <a:off x="785880" y="85716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Администратор\Рабочий стол\Фото старинная Одеса\15328d9c1d669c660c8d098ce2d00374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0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Documents and Settings\Администратор\Рабочий стол\Фото старинная Одеса\637cce6ab618da2d58448b44fabef323.jpg"/>
          <p:cNvPicPr/>
          <p:nvPr/>
        </p:nvPicPr>
        <p:blipFill>
          <a:blip r:embed="rId1"/>
          <a:stretch/>
        </p:blipFill>
        <p:spPr>
          <a:xfrm>
            <a:off x="928800" y="1000080"/>
            <a:ext cx="7286400" cy="51436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Documents and Settings\Администратор\Рабочий стол\Фото старинная Одеса\31cbec0f7a99a2d4ccc8411e7d932254.jpg"/>
          <p:cNvPicPr/>
          <p:nvPr/>
        </p:nvPicPr>
        <p:blipFill>
          <a:blip r:embed="rId1"/>
          <a:stretch/>
        </p:blipFill>
        <p:spPr>
          <a:xfrm>
            <a:off x="928800" y="928800"/>
            <a:ext cx="7215120" cy="50814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Администратор\Рабочий стол\Фото старинная Одеса\3972b7e8e19af2facfa95df713e720b6.jpg"/>
          <p:cNvPicPr/>
          <p:nvPr/>
        </p:nvPicPr>
        <p:blipFill>
          <a:blip r:embed="rId1"/>
          <a:stretch/>
        </p:blipFill>
        <p:spPr>
          <a:xfrm>
            <a:off x="857160" y="714240"/>
            <a:ext cx="7358040" cy="54295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hovsky</cp:lastModifiedBy>
  <dcterms:modified xsi:type="dcterms:W3CDTF">2012-08-31T08:23:08Z</dcterms:modified>
  <cp:revision>10</cp:revision>
  <dc:subject/>
  <dc:title>Слайд 1</dc:title>
</cp:coreProperties>
</file>